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A6E1-552A-4C5E-807B-B76530455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0CC0-213B-4E4C-887B-9205A65F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8908-A479-4C69-8C1F-61258DCAE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28C2-54CB-4DF6-8C76-B7A0B79A0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6BD7-3E9C-464E-9082-896D324E4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E0F3-7C14-498A-9738-09342609B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DF2A-0CD1-4BD6-9012-ECCF414A3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CB6D-6D10-4D38-AF5E-CEE895FB0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43A1-2B6D-47A5-A04B-74C6B277B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2DEC-E52B-4C82-BB21-81F4ECFF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B775-7A4F-4FCC-BC9D-6B9A9C19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04B5-FC6F-472A-969B-A106548B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08631-B4A7-4A57-922A-7C45F9976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3120" y="-93600"/>
            <a:ext cx="9752040" cy="704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-303120" y="-93600"/>
            <a:ext cx="9752040" cy="704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03120" y="-93600"/>
            <a:ext cx="9752040" cy="704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6T15:37:10Z</dcterms:created>
  <dc:creator>Staff</dc:creator>
  <dc:description/>
  <dc:language>en-US</dc:language>
  <cp:lastModifiedBy>Staff</cp:lastModifiedBy>
  <dcterms:modified xsi:type="dcterms:W3CDTF">2008-03-14T16:31:27Z</dcterms:modified>
  <cp:revision>3</cp:revision>
  <dc:subject/>
  <dc:title>Slide 1</dc:title>
</cp:coreProperties>
</file>