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1E2-E672-4C06-8F5C-54683F28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154-3270-48D1-8B17-FAD32FFB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7EC-B490-4B2B-A685-3F250B11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5A5-730A-4FDF-AF84-02961F7E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400-BC7B-4FD4-8A35-B268E538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B39-D354-4745-9AE6-7EFFEA8E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517-8BD7-4AA6-9744-9944E194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A1F-23AA-42A1-B8EB-A5D194EE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A10-41E2-4870-BC35-D60E4FCD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CE7-1AFD-453F-AC50-72A7F89B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D26-CCC4-4B03-866A-66572E3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F6B-C07A-43D4-AAAF-683D2F0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4FE9-F887-413C-B12A-559AC0B76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4380" t="12019" r="0" b="0"/>
          <a:stretch/>
        </p:blipFill>
        <p:spPr>
          <a:xfrm>
            <a:off x="304920" y="0"/>
            <a:ext cx="84582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17524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4038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09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7040" y="63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55680" y="52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5880" y="450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5480" y="5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33720" y="46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3080" y="55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5800" y="99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83000" y="100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360" y="145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25800" y="1498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10000" y="1463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460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3760" y="198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36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1640" y="2511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5800" y="2484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5800" y="2987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00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2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67160" y="3983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92680" y="3978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21160" y="3973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2760" y="4511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46680" y="447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79760" y="4514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97360" y="4983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17920" y="6006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7480" y="1600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6080" y="1752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4680" y="82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08240" y="2982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0:58:35Z</dcterms:created>
  <dc:creator>Staff</dc:creator>
  <dc:description/>
  <dc:language>en-US</dc:language>
  <cp:lastModifiedBy>Staff</cp:lastModifiedBy>
  <dcterms:modified xsi:type="dcterms:W3CDTF">2008-02-10T21:12:15Z</dcterms:modified>
  <cp:revision>2</cp:revision>
  <dc:subject/>
  <dc:title>Slide 1</dc:title>
</cp:coreProperties>
</file>