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2F5B-B3BE-48AC-A1C6-6A00C013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EB8D-4590-4505-9141-C1E8B036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53D4-D4D8-4FF0-99A9-41E61FB9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D47D-F28B-4DE7-AE90-F35030FA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1673-AF97-4796-9CF5-3FB72005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B591-27F8-4128-AACE-8E9BF702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D1AB-3209-46B6-AF3F-4F0BD698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EA69-E92C-4DBD-8BE1-1A7AEF81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E41B-255F-465E-AC54-3C26248E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D258-6D71-4561-AB2D-2DD4D03C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792B-84BD-4EA0-BDD5-48825E71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3973-4DEA-401B-97CE-6046CFB9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463F-4E2A-497B-A2A2-98A95403F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3120" y="-93600"/>
            <a:ext cx="975204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03120" y="-93600"/>
            <a:ext cx="975204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3120" y="-93600"/>
            <a:ext cx="975204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5:37:10Z</dcterms:created>
  <dc:creator>Staff</dc:creator>
  <dc:description/>
  <dc:language>en-US</dc:language>
  <cp:lastModifiedBy>Staff</cp:lastModifiedBy>
  <dcterms:modified xsi:type="dcterms:W3CDTF">2008-03-14T16:31:27Z</dcterms:modified>
  <cp:revision>3</cp:revision>
  <dc:subject/>
  <dc:title>Slide 1</dc:title>
</cp:coreProperties>
</file>