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4E1-3DE0-4217-82BF-650B71BF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B38-8380-49C3-9BF4-F8625095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82C-E41A-47DD-8842-413ED886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0DB-56A9-49C7-A35E-F341A020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190-E0E9-4444-8CA0-6DB9EE07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08B-D892-487A-B623-C692BDF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C48-529C-498F-9AC5-472F982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B93-FF50-4BE1-A10B-19B76D37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465-6B4C-4EC3-9608-633C50A7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016-F304-4A97-8D94-CE6178FA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99E-F3A1-40F1-9D95-577B7C66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F7C-95F7-49E3-81D3-6E6F114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9F1-8D8A-45FD-B46C-9DB93B49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4380" t="12019" r="0" b="0"/>
          <a:stretch/>
        </p:blipFill>
        <p:spPr>
          <a:xfrm>
            <a:off x="304920" y="0"/>
            <a:ext cx="84582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17524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4038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09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7040" y="63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5680" y="52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5880" y="450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5480" y="5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33720" y="46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3080" y="55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5800" y="99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3000" y="100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360" y="145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25800" y="1498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10000" y="1463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460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3760" y="198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36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1640" y="2511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5800" y="2484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5800" y="2987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00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2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67160" y="3983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92680" y="3978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21160" y="3973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2760" y="4511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46680" y="447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79760" y="4514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97360" y="4983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17920" y="6006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7480" y="160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6080" y="1752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4680" y="82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2982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0:58:35Z</dcterms:created>
  <dc:creator>Staff</dc:creator>
  <dc:description/>
  <dc:language>en-US</dc:language>
  <cp:lastModifiedBy>Staff</cp:lastModifiedBy>
  <dcterms:modified xsi:type="dcterms:W3CDTF">2008-02-10T21:12:15Z</dcterms:modified>
  <cp:revision>2</cp:revision>
  <dc:subject/>
  <dc:title>Slide 1</dc:title>
</cp:coreProperties>
</file>