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114-9A1F-4075-843F-539CA63B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AF4-5501-4FDF-9CE7-30D0E45D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DBD-F321-44A5-90C4-1F27EFF4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5D2E-8D6C-48F1-9801-A282E69F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05E-BF52-42C0-9C0C-6A619907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953-013C-49EB-8023-1485FAB5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7C9-A3A6-4E66-A6E1-E23205A0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6B4-69A3-40AF-80F6-EE2E71D0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F85-F377-4FFF-A18F-4827FF11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840-9B43-42B6-81C6-86B32D00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AEE-FF8D-4528-B8AD-6321CBC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D46D-1AA9-4BDE-8FC3-B8B68BEF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2326-ED54-4BDB-ADA9-1241E9A25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7:10Z</dcterms:created>
  <dc:creator>Staff</dc:creator>
  <dc:description/>
  <dc:language>en-US</dc:language>
  <cp:lastModifiedBy>Staff</cp:lastModifiedBy>
  <dcterms:modified xsi:type="dcterms:W3CDTF">2008-03-14T16:31:27Z</dcterms:modified>
  <cp:revision>3</cp:revision>
  <dc:subject/>
  <dc:title>Slide 1</dc:title>
</cp:coreProperties>
</file>