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B46-642B-410D-8E1E-E2CFED76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12A-D469-4AEA-B6B2-BD4FBB94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535-2F03-40FF-9C8A-96072E51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3EC-9E25-437C-BBF0-FA5814BA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440-1842-4FF4-BA3C-FE9B2AEF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ADA-71E1-4D7D-AF1C-43DA84E3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1AA-5E37-432A-BF85-D57E16D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FE6-42D8-42A9-9A74-FCAAED1B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533-B30E-48F8-881C-40621782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172-642B-4902-B61F-B078CF82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B59-8697-4E63-ADFE-9503DFAE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C07-5CE8-4049-A2BF-C8BD100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1F92-6407-4867-8039-F1A400A14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4380" t="12019" r="0" b="0"/>
          <a:stretch/>
        </p:blipFill>
        <p:spPr>
          <a:xfrm>
            <a:off x="304920" y="0"/>
            <a:ext cx="84582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17524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4038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09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7040" y="63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5680" y="52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5880" y="450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5480" y="5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33720" y="46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3080" y="55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5800" y="99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3000" y="100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360" y="145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25800" y="1498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10000" y="1463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460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3760" y="198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36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1640" y="2511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5800" y="2484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5800" y="2987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00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2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67160" y="3983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92680" y="3978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21160" y="3973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2760" y="4511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46680" y="447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79760" y="4514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97360" y="4983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17920" y="6006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7480" y="160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6080" y="1752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4680" y="82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2982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0:58:35Z</dcterms:created>
  <dc:creator>Staff</dc:creator>
  <dc:description/>
  <dc:language>en-US</dc:language>
  <cp:lastModifiedBy>Staff</cp:lastModifiedBy>
  <dcterms:modified xsi:type="dcterms:W3CDTF">2008-02-10T21:12:15Z</dcterms:modified>
  <cp:revision>2</cp:revision>
  <dc:subject/>
  <dc:title>Slide 1</dc:title>
</cp:coreProperties>
</file>