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43B-7848-450B-9A8B-3F640E57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849-C942-4E7F-BD84-C9754754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736-AC4F-43CF-850F-7211634E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928-09E7-49CE-9A01-5B9AB5F5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2DA-018A-46F7-A5B9-194D3313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914-43D2-4951-8EAF-974BEDC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B61-F80E-4858-8F79-2A21C26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E46-0D9B-4607-B9F7-90EE115B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D90-6F36-4A0D-8061-835A66F8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FC3-B576-4362-B81D-6A88F6D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1A1-4585-43A8-8A54-BBE9522A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5B1-6BB7-45F2-AEED-2501B9E9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366A-3F47-4E4F-B7A8-266D4DE42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3120" y="-93600"/>
            <a:ext cx="975204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5:37:10Z</dcterms:created>
  <dc:creator>Staff</dc:creator>
  <dc:description/>
  <dc:language>en-US</dc:language>
  <cp:lastModifiedBy>Staff</cp:lastModifiedBy>
  <dcterms:modified xsi:type="dcterms:W3CDTF">2008-03-14T16:31:27Z</dcterms:modified>
  <cp:revision>3</cp:revision>
  <dc:subject/>
  <dc:title>Slide 1</dc:title>
</cp:coreProperties>
</file>