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B54C-361D-4212-B929-EA2E58F8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02B8-48F7-47D6-B854-FDDA2C59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E6C2-5C42-4F68-A51F-DD321C09E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5784-A0CB-41B1-B86C-CB677E04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D882-BB5E-4154-B856-5015F115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E485-E121-4DD0-BCF2-9AEDC1DE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EEDD-548E-4206-A1FF-A4722B58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C164-D8F7-4393-92E8-F13CED17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0DC1-57A0-440F-802A-09D19199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8F60-137E-4AA5-8701-741EBE57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5FE2-89D9-46DA-9016-DDD252B2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E1E7-14DD-4885-8E53-61F7FD8C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BFEC-5720-4453-B22E-EEC140495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24380" t="12019" r="0" b="0"/>
          <a:stretch/>
        </p:blipFill>
        <p:spPr>
          <a:xfrm>
            <a:off x="304920" y="0"/>
            <a:ext cx="8458200" cy="6851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4120" y="1752480"/>
            <a:ext cx="7596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2590920"/>
            <a:ext cx="75960" cy="759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15200" y="4038480"/>
            <a:ext cx="7632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609480"/>
            <a:ext cx="7632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7040" y="635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55680" y="520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85880" y="450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5480" y="50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33720" y="46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3080" y="55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5800" y="992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83000" y="1001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92360" y="1459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25800" y="1498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10000" y="1463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1460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93760" y="1984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236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01640" y="2511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25800" y="2484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25800" y="2987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70040" y="3506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27240" y="3506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67160" y="39830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92680" y="3978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21160" y="3973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52760" y="45115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46680" y="4470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79760" y="4514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97360" y="4983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17920" y="6006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7480" y="1600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16080" y="1752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04680" y="82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08240" y="2982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20:58:35Z</dcterms:created>
  <dc:creator>Staff</dc:creator>
  <dc:description/>
  <dc:language>en-US</dc:language>
  <cp:lastModifiedBy>Staff</cp:lastModifiedBy>
  <dcterms:modified xsi:type="dcterms:W3CDTF">2008-02-10T21:12:15Z</dcterms:modified>
  <cp:revision>2</cp:revision>
  <dc:subject/>
  <dc:title>Slide 1</dc:title>
</cp:coreProperties>
</file>