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9FC-9077-4CB0-BD26-6198D47B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CEF-E026-432A-A052-F0ECE3A5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52A-AA28-44D5-ADC2-0B2DBDF0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E88-94E9-4A1D-9F4D-50633EAF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A89-EFC7-4415-9F82-CDC2C3BA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8F3-A467-4F34-965E-CCF04403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351A-136D-4B70-A0D1-EA0D894F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5DF-047D-49F6-9372-254773BB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CBC-B52F-4D0D-A3BB-3F3A2D2C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D77-B662-46C9-A468-86CA1B5D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3613-DEF6-4F17-9A12-5FD28659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B83-6589-44FE-A1E8-884730AE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D4BE-9172-448A-8E50-697329244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37:10Z</dcterms:created>
  <dc:creator>Staff</dc:creator>
  <dc:description/>
  <dc:language>en-US</dc:language>
  <cp:lastModifiedBy>Staff</cp:lastModifiedBy>
  <dcterms:modified xsi:type="dcterms:W3CDTF">2008-03-14T16:31:27Z</dcterms:modified>
  <cp:revision>3</cp:revision>
  <dc:subject/>
  <dc:title>Slide 1</dc:title>
</cp:coreProperties>
</file>