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486-A299-49C9-909F-D7299B5D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8FB-194D-4813-A1AE-6F5042FB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3F7-5433-4436-BBA2-2D1432A6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009E-213A-4071-9AA1-212ABE18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59C-B3DE-43C7-B28F-F7AA3C6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83D-E318-4C16-8A72-1B39707A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1B6-CBC4-43EE-8D0B-2FD7C6D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800-3438-4B3D-BCA7-6EDA1833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9C7-1946-470F-A502-9E2731FC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1274-5229-4DD0-8C5C-44FD489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6CE-30E2-497B-9DE0-4B45A74F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B1C-9B2A-44B2-BD82-D331EA8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B423-B3C3-4E57-94C7-0AD386E03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4380" t="12019" r="0" b="0"/>
          <a:stretch/>
        </p:blipFill>
        <p:spPr>
          <a:xfrm>
            <a:off x="304920" y="0"/>
            <a:ext cx="845820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4120" y="1752480"/>
            <a:ext cx="7596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2590920"/>
            <a:ext cx="75960" cy="75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4038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09480"/>
            <a:ext cx="76320" cy="7632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7040" y="635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55680" y="520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5880" y="450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5480" y="50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33720" y="468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3080" y="55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5800" y="992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83000" y="100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360" y="1459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25800" y="1498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10000" y="1463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460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3760" y="1984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36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01640" y="2511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5800" y="2484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25800" y="2987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700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240" y="3506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67160" y="3983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92680" y="3978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21160" y="3973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2760" y="4511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46680" y="447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79760" y="4514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97360" y="4983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17920" y="6006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7480" y="1600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16080" y="1752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4680" y="82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08240" y="2982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0:58:35Z</dcterms:created>
  <dc:creator>Staff</dc:creator>
  <dc:description/>
  <dc:language>en-US</dc:language>
  <cp:lastModifiedBy>Staff</cp:lastModifiedBy>
  <dcterms:modified xsi:type="dcterms:W3CDTF">2008-02-10T21:12:15Z</dcterms:modified>
  <cp:revision>2</cp:revision>
  <dc:subject/>
  <dc:title>Slide 1</dc:title>
</cp:coreProperties>
</file>